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4A0-2E1D-40E4-A78E-7C1C6D32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1C1-B3EC-48F0-AAC1-F710B4FA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DB340-9B10-4FA1-AADF-33DB018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BA9A9-3983-4072-A818-A119FB3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D60E9-8F90-4D06-95E1-C250D8B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519EC-6F90-49FE-BD6B-2945457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B6A6C-DABD-4251-B521-44B34E7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AD552-47E4-48FC-B8DA-5F24BB9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9CD35-E1FC-4BBD-825F-646021DA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B45A0-4787-443D-8F3D-19538CA9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811C7-7468-4212-AE34-BCB3724F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FFDD-BD70-4FB8-91D1-9748FCCA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BC5-D3C1-47EF-A454-88B5E551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609D2-3061-4FF9-8FD5-ABDB8E2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106A9-0012-4975-B543-89D1A95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74DD0-7A74-44E6-A0D8-EECEDA2F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91771-64E1-4EBC-9227-27AB025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948E2-4D98-410D-9318-5D7E5B5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3610C-BA19-4706-A23D-904D84F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4EE9C-00D7-4814-949D-7F78CAB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29CA0-C99D-4EBB-B19E-633F87C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542BC-31E1-418D-AA0E-D07A540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4118-B35E-4D7C-B94A-B42879B4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773-F42A-475E-A24C-3AA48691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63B03-C2C5-4B7F-9CCC-29D19E83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BDFA-F9CF-48B7-8F7A-78605BC8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6899-CFC7-4F7F-AA86-D722292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47C37-894E-4507-A074-8AFC379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1A97F-D872-419F-BF38-9694F23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9031-590E-494E-859E-4ECB845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B562-ABC0-4200-B5FA-C3E29C8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1A2FD-72CF-4CD3-BC3C-DD87E7D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B6DD-19FF-4E6E-AA18-90A31C92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0ABDE-CBBE-438E-8441-ED44A48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5ED1-16AF-41F4-89E4-D54FE20C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837E-3A1F-4A9D-ADEE-029C390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34BB4-9624-462C-BECA-5315E83A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C5F3-39E5-423B-AF1D-4F26AD60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B7E1-C05A-4880-B69C-D1D2A059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4FA84-7181-4A0F-BA0A-968BBD3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1A3F1-84DC-4B4F-AD35-AEF49AC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E8AFC-8B7D-4F50-9F82-27B915F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FDE18-8BD6-44AA-A89C-839C246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BD38F-8148-4912-B039-AE524E8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A8E4A-E3A3-4E15-8D78-EC753B0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9DD-FD5B-4EFC-A5FC-2EFAD96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36372-31B0-4813-B5A6-563FB885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E2655-52B0-4AD5-A9D5-4C13948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9865E-560A-449F-8778-874EFCF1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24CF-5100-4BFF-A8E1-E53FBA0C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CB7B-3902-4D28-B51B-CC883850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FCC86-E652-4961-8EB1-96A325F4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8F55F-D4D7-4E2B-9C83-8B14AF2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0DB66-0F84-4FE1-AFA6-B22E36D5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DD726-9AD9-45BB-B143-FE5AFAF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81007-D953-478A-911F-2D4BE42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8FA-07F4-4AE1-A346-37B338E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6B11C-8698-47E2-8543-92C983D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800A9-ED9A-4E86-877B-95EA9D8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66E62-8AEF-4F3B-81BF-8C561F72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9ED01-E62B-4FC3-BBF2-4C9740A5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E9FE2-66E3-48B8-9F23-1C0694D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4A007-7F19-43FE-928B-21399BFA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A8367-2F75-4F81-A424-D86A4AD1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2328B-70C6-48F2-AD9A-955DB29D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90D11-ABCB-4BD6-9165-2FB5320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29EA1-A530-4759-A003-FF59741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6729-D6EF-4C50-A0E2-9510375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EF2CA-78A5-4252-83AF-3744C904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9021D-6596-44FE-A226-F324B04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5B96A-351E-4EA5-89D1-ABF34CD7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B91DF-C919-4549-8325-0BE3E76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C71E3-EEB4-4192-8111-B4988C7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E2517-F8C7-4C14-AB4B-2A6F241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74DFC-EACB-4FF5-A733-8A25662C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82824-DE5D-451C-A9E1-784CD500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0ABA1-E410-4406-ABC8-892771AF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B4B2-7A5D-47EC-BA3F-18B4E91A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19FD-A798-42D3-83DE-9EE21DA0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6F5-9A19-43E7-BC9E-D0DE007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C8E-E177-4784-A745-3EFC7070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C2D-5E6C-4F68-B3F0-FC1C3FE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7CF1-F87F-4097-BC3A-D712384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9D2-B6BB-4CE8-8BBF-B849B1E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776-FAA5-4CAC-A51E-C47481FF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959-6116-4633-BCB5-03ECAD0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80BD-D8D8-4B9D-97D4-19CEBCDC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FBCC-3610-4B8C-AF8D-0E3B16A8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305E-67E4-44D0-B00E-C1221498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FAAB-7D94-43A1-B6B0-10894FB2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B030-3827-42C5-93F3-91464F47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80B-881D-4ED3-B944-6277EBD9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E24F-EBCC-4FBF-8AB9-27F12E79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BAEB-925E-4178-8649-3DA8B0A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FBE5-ED84-4F4F-88AF-97F96FE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B5D5-4A13-4985-AF2F-E56A130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08E3-8342-444A-89BF-A82E0453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8F8F-AAE7-443F-B94A-0AFA0705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30D2-3162-4788-93D6-18C3AAAA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3943-82FD-4378-85EB-9622715F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50F5-4A0D-4E16-9083-3EA7A0BF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E9CB-68EA-4A90-84E1-7FEFCB5D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CA2-97D0-4CB1-9775-273EFE7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E663-31D3-43AE-9EBD-9477DC5B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3D99-5624-4BCC-8DB9-DC12880E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270B-16F7-47F5-ABFE-2C0F086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FBC6-26A2-41A1-BCBE-78509962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939C-EAD3-44DD-9030-6BC4C19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2352-17E6-47C7-AA4A-EA25E4C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F33E-6D66-44E7-A1C2-6EF50BF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A484-44B5-4F53-AD8B-58C439A0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1F12-B3B4-44FE-9C03-E03A957B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1635E-4B5D-49C5-BE52-FF48D680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929-F6C4-4155-A10B-30C24EC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E1EEE-7732-45DA-947C-21C6E903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090B-8ED4-4323-B2EA-18F99681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C014-60D2-40C1-B2AC-7133D5E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3E22-ED91-4071-BA67-4B41458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611D-522F-49D1-BAC9-379A628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2095-8076-4C60-B621-618578C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CF0A0-462D-434A-AE9B-AE34C4A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60F0-4B87-43B4-8CEA-0AA13F2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6D25-557E-43C6-95C8-93067A3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EBEE-E78C-42E5-911C-A383FEB0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014-9BC1-49EF-B4FD-142A856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705D-1C33-4E28-ACD2-7D8032DD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7494-6BA6-4A2C-8A39-0481E30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38DB-B2A0-4CEE-8FA1-39EB896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14C88-566C-47BB-8F64-0C521BA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DBCB-28C5-48AD-BE1C-D1F7CE6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29E3-94A5-48A1-BCB4-FCA2949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302C-732F-4FF1-9400-715D32EC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85E6D-119D-41D3-ADAF-29C454C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196F-F19F-4639-A9E1-AF7193D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7F87-0441-405B-9022-5735571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64F-664C-4C95-8E7C-8E4F700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9245-0EE1-4D54-84DA-31D05F37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83C45-6321-46CE-B0A3-89772859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209C-A9A9-4851-8257-55BD67B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527A-23A7-4077-9C5C-CD5774F4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F0BC-67E2-484D-973B-DD593B9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FE79-8203-40F4-8A0E-7F0D0C1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BC695-8B1E-4D2E-BE2C-132F2771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F43B-85E4-4CA9-9471-8D7CA44C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FF3FE-2DD3-4933-BD0C-971916D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32A9-3764-4007-BEC8-1E438C3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4F4-6CCC-400B-9C9F-616B30D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90DE-A10E-4152-B9DA-30FB803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BF6E5-2158-4700-A408-A36C992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199E-E642-478B-884B-69822DFD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EC4F-6B65-40A2-AF7A-7B331492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6FBB-89B5-4ACB-AEE7-D0E83ECB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421D-4644-4FD1-9F97-07751815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7BF6-230C-4B51-8C46-4C78F8F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1398-93F9-4E71-951C-30016DD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29882-8C3B-445B-A594-1984134A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3271-B94F-4E5B-97D7-766DC01F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A19-1F22-4E7C-BE82-7E529EE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2438-67B5-45A3-88C7-A1F0F491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FE4E-8157-4FE8-8D31-89BD64C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8099-5834-4ECE-BA19-F2D7CA12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03D46-B010-49C5-AFCD-197279F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59BA-9FBC-44AB-B3D8-80169FF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99A90-9D91-4BCF-AE36-159974EB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C9D2-7936-49AE-A510-4E3D1B52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597E5-5597-4A43-96C8-07B5AE62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EE630-D1B9-4529-8B06-26E6B3E9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DA8AA-6DD1-4493-9080-B260E37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4EAC-10CC-4398-968B-E7C3B94DA12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BE0-A4C5-4D45-B0EA-7B30C8C9DAE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7D0-0B0C-41B6-A9A5-9A656CA8A8B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601-7A90-4B59-9FC9-EA61CEC0C0A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DCA-868C-405F-8C6A-2643CEF334B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73D3-2EC1-4421-A785-32760E5667DE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E05-70C2-4A6E-8A6F-A158B9E8623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762-04B0-4D7C-981A-0BACD2903C9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E070-577C-482D-95D1-61057369263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5B5-53E0-4310-BEA5-4698202B039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6D1-76EA-4CE3-9548-925020872BE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844-27A0-4974-BC68-3C82CA93CB7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A9A-F3C9-418D-88D6-9AF434E3563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D3C1-6877-4052-BB55-2091B6B532C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A8AA-227D-4B86-A8E4-DDB6F0B7D04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18760" y="825480"/>
            <a:ext cx="7086600" cy="10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2A Transmit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00"/>
          <p:cNvSpPr/>
          <p:nvPr/>
        </p:nvSpPr>
        <p:spPr>
          <a:xfrm>
            <a:off x="4335480" y="3822840"/>
            <a:ext cx="18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"/>
          <p:cNvSpPr/>
          <p:nvPr/>
        </p:nvSpPr>
        <p:spPr>
          <a:xfrm>
            <a:off x="379800" y="631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. 8-5-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6" descr="M2A Cal 6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will be displayed if zero is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able to set to fresh air values, FAIL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sensor then perform zero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F251-A462-44A3-8B85-111C9F003D2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FreshAir adjustment is completed, new value will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ontent Placeholder 6" descr="M2A Cal 7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800600" y="16128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ACA9-CB7D-4E1C-A6AA-1EF058F99EB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Content Placeholder 6" descr="M2A Cal 8A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will ask if you want to SPAN with Cal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EB7-6260-4CF4-9827-E793BD4EE28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indicate SPA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6" descr="M2A Cal 8B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A35-006D-47F2-A2AE-0827C1FED64C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Content Placeholder 6" descr="M2A Cal 9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span gas cylinder to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calibration cup to sensor and turn on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0DFB-2380-4FAA-8DC6-C753A44BC17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gas reading to stabil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2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6" descr="M2A Cal 10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D4ED-20E3-414C-BD4B-67D6950F091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Content Placeholder 6" descr="M2A Cal 11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 and adjust span for maximum value to determine headroom of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A35-35B4-46CF-BB6B-7588807CDE7C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magnet over the DOWN/NO Hall effect switch and adjust reading to calibration point. Then place magnet over ENTER Hall effect switch to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Content Placeholder 6" descr="M2A Cal 12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FBB-4C55-4BEA-A49D-515729FE2C4C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6" descr="M2A Cal 1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ompleted, new SPAN value will 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calibration cup from sensor and turn off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21F-C317-4D6D-AD41-706DA31EA2B6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llow sensor reading to stabilize and return to normal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Content Placeholder 6" descr="M2A Cal 1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545-B49A-4EAF-87A5-ACF598522CE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ransmitter Specific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power: 10-30 VDC, 0.16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: Explosion Proof Class I Div. 1 Group B,C, and D, epoxy-coated aluminum, NEMA 4X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s: 8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 x 5.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x 4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: 4.5 l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Range: -40C to 7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:  Indoor or outdoor locations Max humidity: 95% RH (non-conden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 contact rating: 5A @ 115/220V- Form C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output: 4-20 mA, 500 Ohms impedance max, and RS-485 Mod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 with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mounted on ceiling with remote calibration adapter and tubing inst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Content Placeholder 6" descr="Remote Cal UPS.jpg"/>
          <p:cNvPicPr/>
          <p:nvPr/>
        </p:nvPicPr>
        <p:blipFill>
          <a:blip r:embed="rId1"/>
          <a:srcRect l="-29304" t="0" r="-29304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8AE2-B576-47F0-B32F-CA69E2ABC915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Tu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tubing provides a convenient way to apply calibration gas to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Content Placeholder 6" descr="test line location.jpeg"/>
          <p:cNvPicPr/>
          <p:nvPr/>
        </p:nvPicPr>
        <p:blipFill>
          <a:blip r:embed="rId1"/>
          <a:srcRect l="0" t="0" r="-7685" b="-6392"/>
          <a:stretch/>
        </p:blipFill>
        <p:spPr>
          <a:xfrm rot="5400000">
            <a:off x="4009680" y="2037960"/>
            <a:ext cx="5207040" cy="4432320"/>
          </a:xfrm>
          <a:prstGeom prst="rect">
            <a:avLst/>
          </a:prstGeom>
          <a:ln w="0">
            <a:noFill/>
          </a:ln>
        </p:spPr>
      </p:pic>
      <p:sp>
        <p:nvSpPr>
          <p:cNvPr id="6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74D-73D3-4215-A2C5-7ED30B97650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Content Placeholder 6" descr="Remote Cal IR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sors using a remote calibration adapter, it may be required to use a higher flow regulator, especially in high ventilation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with remote calibration adapte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A45F-B071-4AF6-866D-4AF9526A2A7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Content Placeholder 6" descr="Remote Cal Others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adapter for catalytic bead LEL senso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68F-3C37-4715-BF0C-B9C5C72E6D5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and ENTER buttons to enter the CONFIG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Content Placeholder 6" descr="M2A Config 1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5C9-609D-47CA-9C14-A5D5B67BE9E7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9160" y="1600200"/>
            <a:ext cx="75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allows the user to change the M2A Transmitt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includes a 5 minute time out feature if a control button is not pressed for 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Content Placeholder 6" descr="M2A Config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2EA-2BD9-492D-98D6-09039813FE73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Set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activation-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action N.DE-EN or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reset LATCH or SELF-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 OnDY (alarm On delay, 1 sec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Content Placeholder 6" descr="M2A Config 3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6EF-154C-435C-8FDB-5A85AFD0044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activation 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action N. DE-EN /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reset, LATCH/SELF-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 OnDy (alarm 2 On delay, 1 sec.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upp (0.5% for O2, 2% of scale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(5 sec.)  reduces jumpy or nois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 Time (15 minutes) adjustable from 5 minutes to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E22-9CA6-477B-8CAD-126B30B623CA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ernal Descrip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" descr="Figure 9.jpg"/>
          <p:cNvPicPr/>
          <p:nvPr/>
        </p:nvPicPr>
        <p:blipFill>
          <a:blip r:embed="rId1"/>
          <a:stretch/>
        </p:blipFill>
        <p:spPr>
          <a:xfrm>
            <a:off x="1239840" y="1257480"/>
            <a:ext cx="67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n normal operation, press and HOLD the YES and DOWN/NO buttons for five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when display shows Select Gas 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Content Placeholder 9" descr="M2A Gas Type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108-45BA-4CB6-986C-C6785A988E8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endent on the type of M2A that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select gas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gas type is selected M2A will ask if you want to sav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UP/YES button to sav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818D-A203-4DA1-A933-D7EDDA2CB259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8840" y="3265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o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2070000"/>
                <a:gridCol w="6159600"/>
              </a:tblGrid>
              <a:tr h="51768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Head Input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H2S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xygen detector is connected to the M2A Transmitter with 2 wires using the OXY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LEL detector head is wired to the M2A Transmitter with 4 wires using the LEL BLK, GRN, WHT, and RED terminal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20 mA Outpu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enter calibration mode the output is fixed at 3.5 mA or 17.4 mA for O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s input power decreases below 9.5 Volts and is in low power alarm.  Output is fixed below 2.4 mA until power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 goes into fail condition after 30 second delay.  Output is fixed below. 2.4 mA until fault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7BA-CE8C-4231-A88E-E332B294EC6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B3E-CC3D-462F-BA7F-341A8933E599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5"/>
          <p:cNvGraphicFramePr/>
          <p:nvPr/>
        </p:nvGraphicFramePr>
        <p:xfrm>
          <a:off x="1409760" y="1238400"/>
          <a:ext cx="645156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238400"/>
                    <a:ext cx="645156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796-2AD7-47AC-B5C9-ED32EB0B3DC8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3E22-6AF1-4D0E-8ABE-1794BC0CDF0D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" descr=""/>
          <p:cNvPicPr/>
          <p:nvPr/>
        </p:nvPicPr>
        <p:blipFill>
          <a:blip r:embed="rId1"/>
          <a:stretch/>
        </p:blipFill>
        <p:spPr>
          <a:xfrm>
            <a:off x="2743200" y="2197080"/>
            <a:ext cx="365760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agnetic wand, place magnet over UP/YES Hall effect switch to engage Calibration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Content Placeholder 7" descr="M2A Cal 1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59B7-1F3B-4D0C-A0D1-911D9F49E4C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Content Placeholder 6" descr="M2A Cal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ib? YES/NO is displayed, touch magnet to glass where UP/YES Hall effect switch is 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D4A-C157-46C0-94D1-97894D16CC23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type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calibration kit a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Content Placeholder 6" descr="M2A Cal 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65E-78FB-47A0-B730-04D1FC2F0C2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reshAir Adjust is displayed, touch magnet to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uspect that there may be gas in the atmosphere, use zero air to set FreshAi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Content Placeholder 6" descr="M2A Cal 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984-B1C4-43F8-B7A1-366E2027140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Content Placeholder 6" descr="M2A Cal 5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djust to fresh air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0DE9-CCF5-4BCA-A703-7B7316DC11F8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0:18:30Z</dcterms:created>
  <dc:creator>Steve Peluffo</dc:creator>
  <dc:description>designed for RSM fixed system training</dc:description>
  <cp:keywords>anatomy</cp:keywords>
  <dc:language>en-US</dc:language>
  <cp:lastModifiedBy>Steve Bretzke</cp:lastModifiedBy>
  <cp:lastPrinted>2014-07-09T00:13:27Z</cp:lastPrinted>
  <dcterms:modified xsi:type="dcterms:W3CDTF">2016-09-08T16:31:21Z</dcterms:modified>
  <cp:revision>99</cp:revision>
  <dc:subject>Anatomy of a fixed system</dc:subject>
  <dc:title>Anatomy of a Fixed System</dc:title>
</cp:coreProperties>
</file>