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ct" ContentType="image/x-pict"/>
  <Override PartName="/ppt/media/image6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jpeg" ContentType="image/jpeg"/>
  <Override PartName="/ppt/media/image22.pct" ContentType="image/x-pict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D08B-F029-4F8F-8A35-86348DC96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933F-3032-485E-B02A-CFEBF3406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C22D-ECF9-4D1C-B5DC-3BB31D4A6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D689-7C69-472C-AD98-A3724684B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97A45-B864-4530-8409-A30278B62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9938D-C3B3-456B-8A86-72A865424E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F4656-6237-435C-A546-ED3D1F799D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EADF0-6BE0-4FED-BD3E-348681DB69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F4C27-A603-4127-BBCA-B8E76C2EAB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52539-4086-4FB4-AE45-459B535B74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74628-DEE4-4DF0-AC3F-26B8EA24B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6290-FCF7-4C71-86D1-FEF8A99DE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E2DB1-BC20-4BFD-AE98-7D05FA4536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F6FEC-F76F-4BBE-BA53-01AB3C5787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1332F-5B90-43AF-B862-71C6E662A6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CFEA4-FD4D-43F0-9DA4-310C1CD36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67470-64E6-46CC-B55D-08E78454B4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592C-C307-420E-BF62-00C7447A5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60C9-D3F7-40AD-9AE4-3DDF5567C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B4F0-137C-42C7-8ACD-CEF36EDA3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46E5-5B23-4E78-A30C-5213EDC2B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298A1-D6A1-4D46-84F8-51C3D0796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8FF7-8B7A-4E99-8557-41914C2B4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6B7E-D12C-46F1-8D58-E695E6FD9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C151-7A69-4AAF-BD7F-FEABB72AF0DF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914400" cy="88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8C82-9361-4BBA-895D-7E03CF69BC79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914400" cy="88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00280" y="293760"/>
            <a:ext cx="6730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World Leader In Gas Detection &amp; Sensor Technolog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76320"/>
            <a:ext cx="1219320" cy="1185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1066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GX-2009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66880" y="5257440"/>
            <a:ext cx="4267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rvice Program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Rev. 2/3/09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81240" y="610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203040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13D9C-09D3-4853-8839-FCA052E9F56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Calibration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libration Mode provides the following men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date and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 a fresh air adju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 a span adjustment (all channels simultaneously- AUTO C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 a span adjustment (one channel at a time - ONE C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the batteries with the REFRESH fun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9FAE-A44A-4AB1-B541-C3A3688B8BB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Accessing Calibration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 with the GX-2009 of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and hold the AIR button, then press and hold the POWER MODE button. When you hear a beep, release the butt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AIR button, scroll to the AUTO CAL scr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the POWER MODE but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309744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83CD-7A30-400C-A6F6-95796319832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Auto Calibration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 Calibration adjusts all active sensors simultaneous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AIR button, scroll to AUTO CAL, then press the POWER but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libration values will be display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4 50% L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XY 12% V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50 pp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2S 25.0 pp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63EE-3E3C-460D-B854-352CAD3E85B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Auto Calibration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alibration values displayed do not match the gas cylinder val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and hold the AIR button, then press the POWER button, CH4 % LEL --- will be display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the POWER button, 50% LEL will be displayed and bl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the AIR button to increase the value or press the AIR button and hold then press the POWER button to decrease the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64DD-2DA8-4772-88BC-4037E46C60D1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Auto Calibration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alibration values do not match the gas cylinder val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set, press the POWER but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the AIR button to move to the next gas.  Repeat as necess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POWER button when ESCAPE is displayed and you are back to the AUTO CAL scr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C6DA-B220-4852-8916-CD3B786B5FD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Auto Calibration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ing gas to the GX-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 the POWER button to begin Auto Calib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ach regulator to top of calibration gas cylin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ach tubing with calibration cap to regul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ach the calibration adapter plate onto the GX-2009’s sensor face and turn on the regul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 gas readings to stabilize or a maximum of two minu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 and release the POWER butt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X-2009 will attempt to calibrate all four sensors.  If calibration is successful, PASS will be displayed.  If not FAIL will be display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2737-CE6B-4B31-B8D1-2C5BF3E98F3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Auto Calibration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 Cal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the gas regulator o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the calibration adapter p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X-2009 will indicate AUTO 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the AIR button until START is displayed then press the  POWER button to return to normal op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F487-3158-4455-89D3-35E3B760E20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Maintenanc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98760" cy="28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09F4-140A-4C4E-8FD1-239CA287379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Alligator Clip Removal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screw the three Phillips screws to remove the Alligator Cl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ment Alligator Clip:        P/N 13-0116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5BDAA-ED02-433B-9693-1F9790D6C79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Disassembly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the GX-2009 o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 small Phillips screwdriver remove the four screws securing the case halves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sp the case and sepa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6930-C289-411D-8ED0-7F69AE68CF7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GX-2009 Features &amp; Benefits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taneously monitors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ustible g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bon mon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 sulf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ble, Visual and Vibratory ala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ive alarm s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-in data lo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Alarm tr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 time from 10 to 300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 calibration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219320" cy="118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DA470-C15B-47BD-AF4A-9DF27CF08FC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Disassembly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 PC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Mh bat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PC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09880" cy="2857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4" name=""/>
          <p:cNvSpPr/>
          <p:nvPr/>
        </p:nvSpPr>
        <p:spPr>
          <a:xfrm>
            <a:off x="3276720" y="2666880"/>
            <a:ext cx="3733560" cy="685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200400"/>
            <a:ext cx="3276360" cy="609480"/>
          </a:xfrm>
          <a:prstGeom prst="line">
            <a:avLst/>
          </a:prstGeom>
          <a:ln w="1908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3581280"/>
            <a:ext cx="419112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114800"/>
            <a:ext cx="281952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832F-9D49-4B1F-9431-C802FA964A3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ront Case &amp; Components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 case, front:       P/N 21-1880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ket for buzzer hole: P/N 07-6018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bration motor:        P/N 30-1054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PCB:           P/N 24-5000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CD Assembly:        P/N 51-1119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809880" cy="2857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1" name=""/>
          <p:cNvSpPr/>
          <p:nvPr/>
        </p:nvSpPr>
        <p:spPr>
          <a:xfrm flipV="1">
            <a:off x="3429000" y="4038120"/>
            <a:ext cx="2895480" cy="1752840"/>
          </a:xfrm>
          <a:prstGeom prst="line">
            <a:avLst/>
          </a:prstGeom>
          <a:ln w="1908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52680" y="3809880"/>
            <a:ext cx="236232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352680"/>
            <a:ext cx="2666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590920"/>
            <a:ext cx="20574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772E-1F69-4737-8D31-D8FBA9F1223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Rear Cas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case, rear   P/N 21-1881RK, buzzer inclu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ket (10 pack) 07-6017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8" name=""/>
          <p:cNvSpPr/>
          <p:nvPr/>
        </p:nvSpPr>
        <p:spPr>
          <a:xfrm>
            <a:off x="3733920" y="2819520"/>
            <a:ext cx="2361960" cy="914400"/>
          </a:xfrm>
          <a:prstGeom prst="line">
            <a:avLst/>
          </a:prstGeom>
          <a:ln w="1908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4114800"/>
            <a:ext cx="2286000" cy="0"/>
          </a:xfrm>
          <a:prstGeom prst="line">
            <a:avLst/>
          </a:prstGeom>
          <a:ln w="1908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C79B-D650-49F3-AEEE-4F013B67A35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Batteries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Mh 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9-1609RK (2 e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life: 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to re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2718-1415-4C40-8530-B856CD93664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Sensor PCB Assy.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 Case with PCB P/N 21-1883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 PCB connected to Main PCB by Flexible Printed Circuit Board P/N 24-5000RK- Take care to unplug flexible PCB before removing Sensor Case or damage to flexible PCB will res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809880" cy="2857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13A6-1622-4920-8716-A3C47B7FDA8F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lexible PCB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le PCB, P/N 24-5000RK connects Sensor case with PCB to Main circuit bo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sockets on both sides of the PCB that must be unplugged prior to remo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2857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757E-D24B-4CDE-8A80-2736E825036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Main PCB Assembly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/N 57-2052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1.55 volt silver oxide battery to maintain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 battery P/N 49-1050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62" name=""/>
          <p:cNvSpPr/>
          <p:nvPr/>
        </p:nvSpPr>
        <p:spPr>
          <a:xfrm>
            <a:off x="3809880" y="4419720"/>
            <a:ext cx="2971800" cy="0"/>
          </a:xfrm>
          <a:prstGeom prst="line">
            <a:avLst/>
          </a:prstGeom>
          <a:ln w="1908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0DB4-3D8F-4FE2-952A-77A5DB7E183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LCD Assembly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CD is keyed for easy instal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bon cable has built in connector that is easily unplugged from the main P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038480" y="3276720"/>
            <a:ext cx="1752840" cy="1371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4F83-7EBB-4688-ABD3-6800F08BFC7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Sensors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L Sensor              P/N NC-6264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2 Sensor                P/N OS-B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 Sensor               P/N ES-18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S Sensor              P/N ES-18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life: 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876920" y="2133720"/>
            <a:ext cx="3276360" cy="245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D624-AF5F-43BA-AB71-8304F53064CE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ilter Maintenanc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filters used to scrub the sample to protect the CO and LEL se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C sensor filter           P/N 33-7114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sensor filter          P/N 33-7102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ter life dependent on exposure to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720E-F993-4E04-826C-37F16FF6F7D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GX-2009 Features &amp; Benefits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L/TWA and Peak hold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and 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I shiel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able alligator clip for hands-free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-67 rating for dust and water resistance Rechargeable NiMH bat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 to 20 hours of operation in non alarm condi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hours for a full 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shielded high impact plastic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96F9-76BF-4408-B8A8-1B22D03C5E5B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ilter Maintenanc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filter for HC sensor                   P/N 33-7114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coal filter for CO sensor                   P/N 33-7102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proof sensor cover                    P/N 33-0172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86200" y="2514600"/>
            <a:ext cx="2514600" cy="1219320"/>
          </a:xfrm>
          <a:prstGeom prst="line">
            <a:avLst/>
          </a:prstGeom>
          <a:ln w="1908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3581280"/>
            <a:ext cx="1981080" cy="609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114800" y="4343040"/>
            <a:ext cx="1828800" cy="6094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0706-BB9E-47C2-AC9E-E6EC251E381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User Setup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Date &amp;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fresh air adj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span adjus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alarm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harge batteries (Refres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password feature on or off &amp; define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BEA5-4DF2-419F-AECC-E1476B1E1CC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Accessing User Setup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 and hold the AIR button, then press and hold the POWER MODE button.  Continue to hold butt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ree seconds you will hear a second beep, release both buttons at this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5D3D-ED1D-4481-A768-1C87A3DEB3F5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Using User Setup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password is set to on, then 0000 PASSWORD will be displa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password is set, then enter password at thi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do not know the password or need to enter this mode, then use the password ke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password is off, then DATE will be displa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88FB-ED81-4F55-A37E-7EB79FC006F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Using the User Setup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need to change the Date &amp; Time, press the POWER MODE button to enter this menu, if not press the AIR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erform an AIR CAL, press the POWER MODE button, otherwise press the AIR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erform a AUTO CAL, press the POWER MODE button to enter this menu, otherwise, press the AIR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erform a ONE CAL, press the POWER MODE button to enter this menu, otherwise press the AIR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1DC6-9BFF-4EF9-992A-AC8FBF18B4E0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Using the Setup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hange the ALARM Points, press the POWER MODE button to enter this menu, otherwise press the AIR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ully discharge the batteries and perform a REFRESH, press the POWER MODE button, otherwise press the AIR but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hange the PASSWORD, press the POWER MODE button, otherwise press the AIR button.  Press the POWER MODE button when START is displayed to return to normal op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91AB-055D-4FC2-BB0C-C9C672CBF529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actory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and hold the AIR button, then press and hold the POWER MODE button.  Continue to hold butt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ree seconds you will hear a second beep, continue to hold the buttons until you hear the third be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 the buttons at this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200400" cy="24004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D027-57E4-4AA1-9E8A-7F15EB0C3FFF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actory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play will indicate 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PASSWOR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play will indicate DATE, press the POWER MODE button to enter, otherwise press the AIR but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4F0E-8E89-43D6-9CFF-0757C6B48E22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actory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 COMB will be displayed.  Press the POWER MODE button to e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 Combinations can be se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select CH4 % LEL or HC % 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AIR button you can select each detector and turn it on or 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the POWER MODE button when ESCAPE is displa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9457-71D0-4F40-9CEC-7D57AB43A621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actory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the AIR button and ALARM-P will be displayed.  To enter press the POWER MODE button, otherwise press the AIR but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CHING will be displayed.  Press the POWER MODE button to enter this menu.  Press the AIR button to select on or o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254F-833B-40E8-AA4E-88531362EE3B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Startup Procedur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and briefly hold the POWER/MODE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when you hear a b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Cal. Limit is on and depending on how it is set, you may see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 C--LIMIT (confirm to u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 C--LIMIT (can’t u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Cal. Limit Check is set to None, then the date and time and days to next calibration will be display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981080"/>
            <a:ext cx="2793960" cy="221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CBF7-42F5-41AE-89C7-176AE1206C2F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actory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CAL is now displayed.  Press the POWER MODE to select otherwise, press the AIR button to move to the next me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 CAL is now displayed. Press the POWER MODE to select otherwise, press the AIR button to move to the next me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ECF7-7259-415F-9252-A0276DA0368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actory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AL is now displayed. Press the POWER MODE to select otherwise, press the AIR button to move to the next me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 / SUM is now display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the POWER MODE button to display 03281  E61R depending on firmware version.  Press the AIR but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A3C8-0DBC-4341-9282-19F3E0494D9E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actory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/D VALUE will be displayed.  Press the POWER MODE button to view.  Current A/D values will be displayed at this time. Press the POWER MODE button to END.  Press the AIR button to move to the next scre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ESH will be displayed.  Press the POWER MODE button to enter or press the AIR button to move to the next scre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1835-BF5F-43AF-BFA7-4DE0A14C7EA5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actory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ULT will be displa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ault resets this instrument to original configuration.  Only do this when absolutely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the AIR button and START will be displayed.  Press the POWER MODE button to restart the GX-2009 and return to normal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3C21-DFF3-41E7-A688-1E1BEF38B161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Questions?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1887480" cy="344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4783-082F-4181-8826-32ABEC711EB7}" type="slidenum">
              <a:t>4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Startup Continued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 and Time will be display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ttery voltage is displayed with alarm log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--H (Latching alar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--A (Self resetting alar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scale values for all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ning alarm set point for all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larm set point for all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L alarm set point for CO and H2S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A alarm set point for CO and H2S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074D-A799-4004-AB39-52FFC33CDE7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Startup Continued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sensor should fail during startu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 &lt;sensor type&gt;  SENSOR will be display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sensor and calibrate as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uto Zero Adjustment is set to on, the GX-2009 will perform an automatic fresh air adjustment.  Display will indic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  Z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completed the GX-2009 will now display current readings of sensors insta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D719-2267-4E0A-8DB5-EAB3FDD48456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Fresh Air Adjustment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the GX-2009 to an environment free of toxic or combustible gases and of normal oxy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 and hold the AIR button.  The display will indicate: Air CAL  HOLD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he AIR button when ADJ RELEASE is display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X-2009 should indicate: 0% LEL combustibles, 0 ppm CO, 0.0 ppm H2S and 20.9% Oxyg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BFAA-5AEA-477E-9796-46BF9506D2C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Display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ing the POWER MODE button access Display Mode 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K (The GX-2009 will display the peak readings for combustibles, H2S and CO and the lowest reading for oxygen since the instrument was turned 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clear the peak readings, press and hold the AIR button. The GX-2009 will indicate HOLD AIR, CLEAr RELEASE.  Release AIR button.  Press and release the POWER MODE button to move to the next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309888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B316-C46C-470C-B317-A701DF3A79B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ff9b"/>
                </a:solidFill>
                <a:latin typeface="Arial"/>
              </a:rPr>
              <a:t>Display Mode</a:t>
            </a:r>
            <a:endParaRPr b="1" i="1" lang="en-US" sz="4000" spc="-1" strike="noStrike">
              <a:solidFill>
                <a:srgbClr val="f5ff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Mode Sel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L (Short Term Exposure Limit, for H2S and 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 the POWER MODE button to move to the next 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A (Time Weighted Average, for H2S and 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 the POWER MODE button to move to the next 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Scale Screen (Detection range full scale value for each channel is displayed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 the POWER MODE button to return to the measuring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3ECF-3711-43FA-9F78-47FB6EBD8D1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6:47:55Z</dcterms:created>
  <dc:creator>Jonathan D. Frank</dc:creator>
  <dc:description/>
  <dc:language>en-US</dc:language>
  <cp:lastModifiedBy>Steve Peluffo</cp:lastModifiedBy>
  <cp:lastPrinted>2006-10-13T18:21:12Z</cp:lastPrinted>
  <dcterms:modified xsi:type="dcterms:W3CDTF">2009-02-05T16:09:01Z</dcterms:modified>
  <cp:revision>72</cp:revision>
  <dc:subject/>
  <dc:title>Gaswatch II</dc:title>
</cp:coreProperties>
</file>