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2C4-1A57-4139-A24C-5A745106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292-726B-4DA8-8F71-0A86A984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E569A-E055-43DA-8057-E3604E5E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AB59B-C272-4219-96E7-3D73F775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FDF91-B459-42FB-B94F-C23931C9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FBBA2-28BB-4A5A-924F-FB8163E9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A4468-05F3-4A45-8C19-0152522A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E416B-F4C9-4E9B-A926-0A29741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602A1-FF86-42DF-B660-F78F8E08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FA053-268F-453E-9CD3-F9406E63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89CAE-D61F-4379-BAB7-FC6A955B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92B97-9EC2-40A2-9491-DB5DA01A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497-5AEE-47C8-B2D8-D43A24D5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E22B7-37EA-4317-9F47-867F6E49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88F40-B752-48AC-BBAB-601061DB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B89B2-F404-49B4-B42F-6BF2F700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491A4-6C52-4163-8940-B39436D1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301FD-3690-46B4-8602-E85FE76C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34D35-720E-4BB3-B685-92BFA61F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31883-507F-44B9-AC6F-8231FE0C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B038A-98CE-4AB5-9A8A-E3E23DEF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94117-F8D5-491A-AAE9-B79BACCF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C675D-CC6A-41EA-9E43-8468B6EE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A02-2EAA-4EC8-A501-6094D576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23A25-4DCD-419F-A1DC-527B9211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7AFB6-81FC-4015-9F75-3AF56358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DA919-4783-41E2-8394-74C07E40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D0822-A248-4521-9EB8-0037D166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1CF0C-B615-4131-9AB5-C83265C9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B0EC8-5B4A-46A7-9E71-64ACFB65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37D8F-6DEE-40FE-8117-87959619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13EA5-3DCF-4804-ADED-C66D1977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7EE4B-7426-4B1C-B9EF-886A053C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9FE84-69DC-4621-8BAA-83E3459E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854C-79BC-46C8-9623-9FF18368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5084E-8B43-4227-A32A-3366433E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FC41D-9B26-4CEE-B640-BCA8E160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6F0FC-9F5B-4B56-9E42-9F2195B1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7E0CA-1F86-42A9-82A7-8D566D62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8145E-13F0-4B1C-BFAB-A1128C9A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BDDC4-0539-4EA1-AE3E-98BA9891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598CE-F27F-4BB5-923F-63A04727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6C6D8-AFF4-4B3C-8364-6E9CE7E5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CE540-03D7-4830-90DB-99A518ED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E9E4C-3CBA-4789-ABD4-87816A9E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7628-FB97-44A9-8C82-474520C4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579F5-AFEC-46CD-AB93-52A0291C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AD41D-3EF6-4C73-997D-0787C6C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B0075-005F-447C-A9DD-19628228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92D17-1D74-4A2D-9F5B-EF890E9B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59FAB-D693-4A77-861D-BB7FE9AE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C044D-8783-4395-AC46-89E9A78C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BBA44-D3B0-4BF0-956A-737FA49D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8AB1A-23A3-4050-946C-622C684C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056AA-54EC-4844-A606-5BEF407A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FDDFF-F921-41A5-8782-F08D108F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C05B-4C48-4136-B53F-0DABB81E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57140-7188-41E9-BD48-C21E0EB0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DCB7D-19C8-4370-B1D5-B13D108D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AF4B9-346C-4BF1-ABD7-13965C03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84860-25E8-4349-B1A7-B8316F90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E492C-E118-4E58-9692-423286CE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B910B-F474-4A5E-AA9B-351B1E67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B41B7-E08D-4D19-8561-9BA17272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9CA77-61CD-4707-8B4E-9DB1798E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65FF6-CE0D-4709-86F8-20624BC9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7E47A-7804-485E-9B28-88E0399B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43A7-DD9A-46C9-AB16-3D2B2725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D8C05-E9ED-4503-9D94-2C4A6304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F1378-DA99-4BA2-B76A-EE4B227F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624FB-A9FB-41E4-881A-C762B912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253FC-D7A5-4040-9D31-B5FEED12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A8526-EE6D-4D99-8CC6-904E844C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88E30-D635-4916-BC19-C55AD3E2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028AC-781D-4846-B2A8-C4B6C072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A9F2F-F0C8-4E58-A093-1734F209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82A74-48DF-4E5D-99A2-948C4CBD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BC4B-2FDB-4D1D-A10B-50214126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3FB4-393B-4EC4-A206-31FBDE49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3EE0-73D5-4B26-A839-71BF6E00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A78-3760-4AC4-A9D3-9A10FAB2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B802-5769-4ABA-AD8F-06BD49C5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99A5-6D5C-4688-B3F5-F1214A5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13AE-FF55-4760-9722-BF6D743C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F542-415D-46D3-A09A-029A7226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7EDC-A74D-478B-B518-B80DB2A8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6CDF-B2B8-4846-BE4D-E843A2B9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56D3-2A6F-4FFB-B369-3CE64F66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11DE-831E-4C9B-B467-C45F9261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4B28-6281-4C6C-826F-FE45B246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0E044-89F4-40DD-A07B-B8EC6460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EED-9466-4384-8782-735C935A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03B6-17BC-4B97-85DA-E60BB86F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1B78-2808-41B9-A4C5-ABD9A653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C3A2-A0D3-439E-97DF-3B75400E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3485-D7DD-4000-87A7-CB83922E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A2E7-F3CC-4E27-B669-C733A29A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133A-E48A-468F-9B5A-D2F16083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72E7-8C03-47E8-AA54-68CE71BB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A5B1-8676-4889-A12D-EE4A5900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E2DC0-B4DC-4537-9175-E805DFB6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50EBC-91C9-47AE-928F-14A95B69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0C3-95D5-43ED-8F87-0072F50D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38E4-6D71-46C4-BDBF-8EA4740C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5FA94-4C05-49A3-B8F2-22D154A5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CF248-8D2C-4994-8B5A-26996108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FB98C-A9B5-4DF4-A517-79CC6084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6C06C-9A8D-43DA-968A-88429AA6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1F20C-E769-4977-8E96-93ED75EE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7D4E5-4AED-48C9-B214-D515053B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EA074-1F62-463E-9BD7-24E4B9DB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B0FB4-8A96-4D51-AB48-F31FCFAD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B4853-1CC9-463D-B2C0-60DFA224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01A-2330-4F9D-AFAE-4C6F4FDD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6C608-22FF-46EA-9948-37C482C1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DECB0-0B04-4B1D-98A6-FB63B06E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BBD81-26D6-4F42-BCBE-B7C63D4E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BD0F6-D9D4-4558-A170-1581CDC9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F9ED6-3416-4F19-AB2E-D7E5F42D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AF6EE-A446-4137-A3D8-BAE042C3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49227-FE8A-48A4-B319-F0BC0ADA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2B9D9-BB0E-4895-B1BD-2FFFDD68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C566-3D69-4FF0-BA9A-9206CDFB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0C8D3-159B-4857-8A01-FB2DAD3F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08BD-63E3-4809-A668-BFDC8580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FD426-8512-49EC-A976-63C136E1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C8093-31D8-46FE-ACA8-6EF1336C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4A03E-E555-430E-AD70-F39D75B6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97955-0918-4129-924A-BC46DED2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5A9CD-2549-4820-AE3D-8D48C3D4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94BE0-5D88-4C13-8427-015E3408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841D6-18EB-43E8-B92F-930FCBD7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84961-BE6B-4B44-BF4E-6D9B2E2B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A78AD-1F77-428A-844E-92C4742B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1D6CC-3145-4933-BA3B-A233F9E8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C4A-39FD-4C33-990F-55698BE3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EDF88-BB36-4A10-9A8D-BEE38BB5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EE652-0ECF-4F5E-8E66-F3F3A408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DB48-0079-4B83-BEC2-811AA3DA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66FA2-431F-40C6-AD2E-D935C6E1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2540A-838D-41FB-B8C8-3E209C22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9DDDD-3BCA-4F00-BB97-34BCA8BA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97254-7D4F-4EA6-9E14-4E3158D9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BE73C-6FF7-4A77-B4EF-F55C65A4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4C57E-A47E-497E-8E00-3550FAC4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5B5FF-5513-4265-9D81-CAE8E7D4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75E-B630-48D3-B134-C96232DC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77024-3F0F-4594-AC6E-D763BAC4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410CB-6492-44FB-B9B2-9DA4BD9B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928F2-0F24-4FE9-B060-A3321B8A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4EBF9-AE8A-433A-9CD2-A1421F4D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2655F-B16F-4663-BA06-F4DA6908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32D48-B3CD-4893-BF8D-1258ACBE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6195E-64FA-44EA-87D1-F3EC6E67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1B091-A622-4F07-A032-384A339F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CC0BF-59CF-45C6-803B-275FCE30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7922B-EE3A-427C-8B3E-43AAD5B0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880-1BC1-4B41-80F0-97EFE0B7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65BAC-4100-4136-9646-73F952D0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5981E-D395-4DD9-995D-EC6A1ACB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D99C4-3FC7-45EC-A535-7652A71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8BA5E-762F-4ABC-8F8E-93C8CF76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8A06D-6DDB-4594-BC62-FA2025D2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EF596-017B-43E3-8588-35F4B2E0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25FDD-CA6A-4D70-9C00-6AA1D790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25EBE-DA6E-4A4C-A454-BDFD7206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82848-47FC-44F5-858C-BD40995B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995B8-0A18-467E-93C0-BF9DDF2F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20A9-96E7-4382-B2DE-BDB2D11E1B5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DD7C-9C5B-457D-987C-09FF7E65BEF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2018-628C-439E-BF3C-101169BDAA9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17BC-C0B3-4E78-8FC7-ED3E9779337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F6DB-EA89-4F41-8696-588A80DBDE1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E5EE-F85F-4EAA-9D08-7A59F7F9469F}" type="datetime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D5B1-9A6E-4A52-8818-E521938BE8A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1FCF-390D-49D5-9EDD-EAD26B29F2E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C51A-801D-41AF-91AE-CD4B90D252F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BAAE-9609-4BED-8304-68024755DE1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352B-2F1C-49F1-8069-F316259B1E9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37E7-E785-424F-A786-F71A8998F9E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5BFF-8634-4122-9A3B-C11E802915A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695F-A92D-4773-88B4-7ABCADD1323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0135-A71F-444C-9672-995427E4150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18760" y="825480"/>
            <a:ext cx="7086600" cy="106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2A Transmitt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00"/>
          <p:cNvSpPr/>
          <p:nvPr/>
        </p:nvSpPr>
        <p:spPr>
          <a:xfrm>
            <a:off x="4335480" y="3822840"/>
            <a:ext cx="18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" descr="M2A Front View.psd"/>
          <p:cNvPicPr/>
          <p:nvPr/>
        </p:nvPicPr>
        <p:blipFill>
          <a:blip r:embed="rId1"/>
          <a:stretch/>
        </p:blipFill>
        <p:spPr>
          <a:xfrm>
            <a:off x="3430440" y="2120760"/>
            <a:ext cx="2845080" cy="4127760"/>
          </a:xfrm>
          <a:prstGeom prst="rect">
            <a:avLst/>
          </a:prstGeom>
          <a:ln w="0">
            <a:noFill/>
          </a:ln>
        </p:spPr>
      </p:pic>
      <p:sp>
        <p:nvSpPr>
          <p:cNvPr id="591" name="TextBox 1"/>
          <p:cNvSpPr/>
          <p:nvPr/>
        </p:nvSpPr>
        <p:spPr>
          <a:xfrm>
            <a:off x="379800" y="631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. 8-5-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Content Placeholder 6" descr="M2A Cal 6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will be displayed if zero is 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nable to set to fresh air values, FAIL will be disp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sensor then perform zero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F8FD-3C66-4BB5-BCBA-DE0BFEEA0FBA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FreshAir adjustment is completed, new value will be saved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Content Placeholder 6" descr="M2A Cal 7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800600" y="16128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9FA7-EBEC-475A-BDCC-D727181431C6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Content Placeholder 6" descr="M2A Cal 8A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 will ask if you want to SPAN with Cal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magnet over UP/YES Hall effect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61CD-FA7B-4D4E-8EA2-7ACFA800234A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2A will indicate SPAN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Content Placeholder 6" descr="M2A Cal 8B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4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51CE-EC97-471E-A81B-2A9649E933DA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Content Placeholder 6" descr="M2A Cal 9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span gas cylinder to reg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calibration cup to sensor and turn on reg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F31B-99C6-4E8A-966B-5EA3AC8A904F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gas reading to stabil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of 2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Content Placeholder 6" descr="M2A Cal 10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F190-C00A-4077-A731-FF09F4D5EBB8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Content Placeholder 6" descr="M2A Cal 11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magnet over UP/YES Hall effect switch and adjust span for maximum value to determine headroom of the sen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CCEB-596B-4D44-A43B-7A64B4ED9FF7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magnet over the DOWN/NO Hall effect switch and adjust reading to calibration point. Then place magnet over ENTER Hall effect switch to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Content Placeholder 6" descr="M2A Cal 12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6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6675-A6AF-4AB4-804B-22E69F373816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Content Placeholder 6" descr="M2A Cal 13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completed, new SPAN value will  be saved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calibration cup from sensor and turn off reg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F644-693A-4445-BD48-2D405D1FED9E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2A will allow sensor reading to stabilize and return to normal op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Content Placeholder 6" descr="M2A Cal 14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00FC-DBCB-4A5D-BC76-006086F0A1D0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ransmitter Specifica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power: 10-30 VDC, 0.16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: Explosion Proof Class I Div. 1 Group B,C, and D, epoxy-coated aluminum, NEMA 4X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s: 8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 x 5.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x 4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: 4.5 l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Range: -40C to 75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ng:  Indoor or outdoor locations Max humidity: 95% RH (non-conden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y contact rating: 5A @ 115/220V- Form C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output: 4-20 mA, 500 Ohms impedance max, and RS-485 Mod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 with Cal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sensor mounted on ceiling with remote calibration adapter and tubing insta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Content Placeholder 6" descr="Remote Cal UPS.jpg"/>
          <p:cNvPicPr/>
          <p:nvPr/>
        </p:nvPicPr>
        <p:blipFill>
          <a:blip r:embed="rId1"/>
          <a:srcRect l="-29304" t="0" r="-29304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E483-F94C-4F90-9BCA-73E4E1A23C34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te Cal Tu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 calibration tubing provides a convenient way to apply calibration gas to the sen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Content Placeholder 6" descr="test line location.jpeg"/>
          <p:cNvPicPr/>
          <p:nvPr/>
        </p:nvPicPr>
        <p:blipFill>
          <a:blip r:embed="rId1"/>
          <a:srcRect l="0" t="0" r="-7685" b="-6392"/>
          <a:stretch/>
        </p:blipFill>
        <p:spPr>
          <a:xfrm rot="5400000">
            <a:off x="4009680" y="2037960"/>
            <a:ext cx="5207040" cy="4432320"/>
          </a:xfrm>
          <a:prstGeom prst="rect">
            <a:avLst/>
          </a:prstGeom>
          <a:ln w="0">
            <a:noFill/>
          </a:ln>
        </p:spPr>
      </p:pic>
      <p:sp>
        <p:nvSpPr>
          <p:cNvPr id="68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B313-3FA2-4F29-9C3A-39284AED8801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te Cal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Content Placeholder 6" descr="Remote Cal IR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ensors using a remote calibration adapter, it may be required to use a higher flow regulator, especially in high ventilation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sensor with remote calibration adapter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0E30-0664-4219-AC92-279CBBE26B4D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te Cal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Content Placeholder 6" descr="Remote Cal Others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 calibration adapter for catalytic bead LEL sensor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76D4-C9F5-4CBC-940F-A1CA8B6D69F0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1" descr="M2A Front View.psd"/>
          <p:cNvPicPr/>
          <p:nvPr/>
        </p:nvPicPr>
        <p:blipFill>
          <a:blip r:embed="rId1"/>
          <a:stretch/>
        </p:blipFill>
        <p:spPr>
          <a:xfrm>
            <a:off x="3430440" y="2120760"/>
            <a:ext cx="2845080" cy="41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UP/YES and ENTER buttons to enter the CONFIG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Content Placeholder 6" descr="M2A Config 1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9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A010-6256-49D0-88DE-21FF5A84E378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49160" y="1600200"/>
            <a:ext cx="75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Mode allows the user to change the M2A Transmitt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Mode includes a 5 minute time out feature if a control button is not pressed for 5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Content Placeholder 6" descr="M2A Config 2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UP/YES button to conti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520B-D66F-4989-A46E-90932076C078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M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1 (Set 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1 (activation-Increase/Decr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1 (relay action N.DE-EN or N.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1 (relay reset LATCH or SELF-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 OnDY (alarm On delay, 1 sec s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Content Placeholder 6" descr="M2A Config 3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1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B172-2F71-46F5-9C4C-7E2E6029C760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2 (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2 (activation Increase/Decr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2 (relay action N. DE-EN / N.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2 (relay reset, LATCH/SELF-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2 OnDy (alarm 2 On delay, 1 sec. s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Supp (0.5% for O2, 2% of scale for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 (5 sec.)  reduces jumpy or noisy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 Time (15 minutes) adjustable from 5 minutes to 3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CB4D-9BE8-4735-8C60-AECE803B2449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ernal Descrip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1" descr="Figure 9.jpg"/>
          <p:cNvPicPr/>
          <p:nvPr/>
        </p:nvPicPr>
        <p:blipFill>
          <a:blip r:embed="rId1"/>
          <a:stretch/>
        </p:blipFill>
        <p:spPr>
          <a:xfrm>
            <a:off x="1239840" y="1257480"/>
            <a:ext cx="672624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in normal operation, press and HOLD the YES and DOWN/NO buttons for five sec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when display shows Select Gas 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Content Placeholder 9" descr="M2A Gas Type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2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33E6-E11F-41E0-BE9F-AE4E46DA04EE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ependent on the type of M2A that you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UP/YES button to select gas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gas type is selected M2A will ask if you want to save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UP/YES button to sav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1CB9-BFD1-4EB5-8687-C5D83E2C1F32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8840" y="3265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o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457200" y="1600200"/>
          <a:ext cx="8229600" cy="3809880"/>
        </p:xfrm>
        <a:graphic>
          <a:graphicData uri="http://schemas.openxmlformats.org/drawingml/2006/table">
            <a:tbl>
              <a:tblPr/>
              <a:tblGrid>
                <a:gridCol w="2070000"/>
                <a:gridCol w="6159600"/>
              </a:tblGrid>
              <a:tr h="51768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or Head Input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2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H2S detector is connected to the M2A Transmitter with 2 wires using the TOX + and - terminals from the detector/transmitter terminal strips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 detector is connected to the M2A Transmitter with 2 wires using the TOX + and - terminals from the detector/transmitter terminal strips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oxygen detector is connected to the M2A Transmitter with 2 wires using the OXY + and - terminals from the detector/transmitter terminal strips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LEL detector head is wired to the M2A Transmitter with 4 wires using the LEL BLK, GRN, WHT, and RED terminals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-20 mA Output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enter calibration mode the output is fixed at 3.5 mA or 17.4 mA for O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ransmitters input power decreases below 9.5 Volts and is in low power alarm.  Output is fixed below 2.4 mA until power alarm cl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ransmitter goes into fail condition after 30 second delay.  Output is fixed below. 2.4 mA until fault alarm cl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BA44-FC93-46F2-9CE0-0EE625F88977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 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1717-2825-4822-827B-A83A665CFFDB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Object 5"/>
          <p:cNvGraphicFramePr/>
          <p:nvPr/>
        </p:nvGraphicFramePr>
        <p:xfrm>
          <a:off x="1409760" y="1238400"/>
          <a:ext cx="6451560" cy="52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238400"/>
                    <a:ext cx="6451560" cy="52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A704-4801-47E8-BDF7-A8DFFD459D72}" type="datetime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1580-0D5B-4F6B-B838-A6A7901CED02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1" descr=""/>
          <p:cNvPicPr/>
          <p:nvPr/>
        </p:nvPicPr>
        <p:blipFill>
          <a:blip r:embed="rId1"/>
          <a:stretch/>
        </p:blipFill>
        <p:spPr>
          <a:xfrm>
            <a:off x="2743200" y="2197080"/>
            <a:ext cx="3657600" cy="24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" descr="M2A Front View.psd"/>
          <p:cNvPicPr/>
          <p:nvPr/>
        </p:nvPicPr>
        <p:blipFill>
          <a:blip r:embed="rId1"/>
          <a:stretch/>
        </p:blipFill>
        <p:spPr>
          <a:xfrm>
            <a:off x="3430440" y="2120760"/>
            <a:ext cx="2845080" cy="41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magnetic wand, place magnet over UP/YES Hall effect switch to engage Calibration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Content Placeholder 7" descr="M2A Cal 1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11CB-8841-4475-89EC-FBC512DDF62E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Content Placeholder 6" descr="M2A Cal 2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ib? YES/NO is displayed, touch magnet to glass where UP/YES Hall effect switch is 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CCDF-1B77-4AD5-BC76-7572F8E88A3A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type will be disp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calibration kit a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Content Placeholder 6" descr="M2A Cal 3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1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6464-CEDD-48C3-B3A1-9DA7FADCE0C1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reshAir Adjust is displayed, touch magnet to UP/YES Hall effect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uspect that there may be gas in the atmosphere, use zero air to set FreshAir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Content Placeholder 6" descr="M2A Cal 4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1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48E9-BF4C-439F-96F2-5C70E466225B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Content Placeholder 6" descr="M2A Cal 5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2A will adjust to fresh air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094A-8CDC-4ADF-B732-3AEB85CEFD7C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0:18:30Z</dcterms:created>
  <dc:creator>Steve Peluffo</dc:creator>
  <dc:description>designed for RSM fixed system training</dc:description>
  <cp:keywords>anatomy</cp:keywords>
  <dc:language>en-US</dc:language>
  <cp:lastModifiedBy>Steve Bretzke</cp:lastModifiedBy>
  <cp:lastPrinted>2014-07-09T00:13:27Z</cp:lastPrinted>
  <dcterms:modified xsi:type="dcterms:W3CDTF">2016-09-08T16:31:21Z</dcterms:modified>
  <cp:revision>99</cp:revision>
  <dc:subject>Anatomy of a fixed system</dc:subject>
  <dc:title>Anatomy of a Fixed System</dc:title>
</cp:coreProperties>
</file>